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AE158-D0F0-4CC2-B761-50BDE875F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C5D9-29B9-470F-99D6-D0688E8A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6B21-B96A-45FB-8FFC-A0AD8E33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5AFD-E6B1-4054-8188-3220E158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D724-711A-41FB-91F2-AE812D15B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75A3-80DB-4F5C-B70A-70A40412C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14E0-AF0D-4755-8B11-976CB36B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4002-AC6D-409F-AD1B-D54EC5FF3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EC07-5A87-4D56-BAD5-F12492F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9669-1467-470D-B834-8FBE22E07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EE2-3014-486E-9E56-DDA02B06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3912-D849-4B07-A834-D9850469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50D3-9C86-4DFC-9FA3-C114C84CC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freeonlinesurveys.com/" TargetMode="External"/><Relationship Id="rId2" Type="http://schemas.openxmlformats.org/officeDocument/2006/relationships/hyperlink" Target="http://www.zoomerang.com/online-surveys/" TargetMode="External"/><Relationship Id="rId3" Type="http://schemas.openxmlformats.org/officeDocument/2006/relationships/hyperlink" Target="http://www.esurveyspro.com/" TargetMode="External"/><Relationship Id="rId4" Type="http://schemas.openxmlformats.org/officeDocument/2006/relationships/hyperlink" Target="http://www.surveymonkey.com/s.aspx?sm=jEqVcc" TargetMode="External"/><Relationship Id="rId5" Type="http://schemas.openxmlformats.org/officeDocument/2006/relationships/hyperlink" Target="http://polldaddy.com/" TargetMode="External"/><Relationship Id="rId6" Type="http://schemas.openxmlformats.org/officeDocument/2006/relationships/hyperlink" Target="https://www.google.com/accounts/ServiceLogin?service=writely&amp;passive=true&amp;nui=1&amp;continue=http%3A%2F%2Fdocs.google.com%2F%3Fhl%3Den%26tab%3Dwo&amp;followup=http%3A%2F%2Fdocs.google.com%2F%3Fhl%3Den%26tab%3Dwo&amp;ltmpl=homepage&amp;rm=false" TargetMode="External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349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reating Online Surve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Billanook 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333399"/>
                </a:solidFill>
                <a:latin typeface="Arial"/>
              </a:rPr>
              <a:t>October 15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Survey Monke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rcRect l="0" t="24456" r="0" b="3288"/>
          <a:stretch/>
        </p:blipFill>
        <p:spPr>
          <a:xfrm>
            <a:off x="179280" y="1628640"/>
            <a:ext cx="8785440" cy="52293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67640" y="620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060680" y="620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ck here 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t up an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956720" y="1197000"/>
            <a:ext cx="0" cy="151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rcRect l="0" t="24441" r="0" b="4228"/>
          <a:stretch/>
        </p:blipFill>
        <p:spPr>
          <a:xfrm>
            <a:off x="250920" y="620640"/>
            <a:ext cx="8713800" cy="50403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539640" y="616572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6093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lick here to create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050920" y="5084280"/>
            <a:ext cx="1513080" cy="10810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4360" y="5493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f you already have an account, lo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23478" r="0" b="3609"/>
          <a:stretch/>
        </p:blipFill>
        <p:spPr>
          <a:xfrm>
            <a:off x="179280" y="1700280"/>
            <a:ext cx="878544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24049" r="0" b="4459"/>
          <a:stretch/>
        </p:blipFill>
        <p:spPr>
          <a:xfrm>
            <a:off x="179280" y="2060640"/>
            <a:ext cx="8748720" cy="39085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476360" y="692280"/>
            <a:ext cx="56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en you login you get an account summary; to create a survey 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16000" y="1268280"/>
            <a:ext cx="4176720" cy="12970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971640" y="692280"/>
            <a:ext cx="648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nce you have created a survey, you have the option to copy existing surveys, otherwise, simply check create a new survey from scratch    and then choose a title for the surv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71640" y="6165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inally, click “Create survey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23544" r="0" b="3704"/>
          <a:stretch/>
        </p:blipFill>
        <p:spPr>
          <a:xfrm>
            <a:off x="179280" y="2133720"/>
            <a:ext cx="8232840" cy="374328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 flipV="1">
            <a:off x="4067280" y="5589360"/>
            <a:ext cx="360360" cy="863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71280" y="1413000"/>
            <a:ext cx="5545080" cy="37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55640" y="1484280"/>
            <a:ext cx="1728720" cy="3168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23756" r="0" b="5031"/>
          <a:stretch/>
        </p:blipFill>
        <p:spPr>
          <a:xfrm>
            <a:off x="179280" y="1916280"/>
            <a:ext cx="8734680" cy="38876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258920" y="836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elect a the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2268360" y="1125360"/>
            <a:ext cx="648000" cy="266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79600" y="836640"/>
            <a:ext cx="24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ive the page a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2339640" y="1125360"/>
            <a:ext cx="3311640" cy="2951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rcRect l="0" t="22982" r="0" b="4455"/>
          <a:stretch/>
        </p:blipFill>
        <p:spPr>
          <a:xfrm>
            <a:off x="468360" y="1916280"/>
            <a:ext cx="8375760" cy="4465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500720" y="1268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Question 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708360" y="1628640"/>
            <a:ext cx="1943280" cy="1224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Design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Collect Response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5640" y="1628640"/>
            <a:ext cx="756144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collect responses by placing a link in an email or embedding a link in a webpage or wiki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 default setting for survey monkey surveys which does not allow multiple responses per computer – this is to guard against individuals completing multiple survey responses and therefore skewing the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 a school where multiple students need to access the same computers it is often necessary to change this setting. Simply go t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“change settings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nalyse resul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700280"/>
            <a:ext cx="79930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ree basic accou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can view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mma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respondents expressed both in raw numbers and percent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can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rowse all individual respon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are arranged chronologically according to date / time of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features are only available if you upgrade to a professional account which $20 US per mon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Poll Dadd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23020" r="0" b="4748"/>
          <a:stretch/>
        </p:blipFill>
        <p:spPr>
          <a:xfrm>
            <a:off x="179280" y="1628640"/>
            <a:ext cx="8772480" cy="3961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11280" y="587700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urveys or take quick polls – can be embedded into websites and 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Why survey?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1557360"/>
            <a:ext cx="8351640" cy="49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There are occasions when surveying is a very useful to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classroom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teacher with a special responsibility or leadership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66"/>
                </a:solidFill>
                <a:latin typeface="Arial"/>
              </a:rPr>
              <a:t>Surveys can be used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s a learning activity for stu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colleag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o collect information from 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oogle doc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9640" y="530028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rt a Google Docs account and use a form to create a surv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survey can be embedded in a wiki or a link emailed to respond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23180" r="0" b="4540"/>
          <a:stretch/>
        </p:blipFill>
        <p:spPr>
          <a:xfrm>
            <a:off x="324000" y="1557360"/>
            <a:ext cx="84470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Advantages of online survey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Reduces paper use, so more environmentally friend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s can be obtained quick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be done anywhere, any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gi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ata collated for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nclude geographically disparat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Can be linked from school website or wiki to encourage greater access of this fac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ecting information from studen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1557360"/>
            <a:ext cx="835200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many occasions where you may want to collect information from your stud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on learning 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ive assessments to assist your design of new unit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flections on learning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inions and preferences to inform democratic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h as class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ting in your classroo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ossibilities are endles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…………………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arning activities for student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1484280"/>
            <a:ext cx="777708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ly, students may be collecting information as part of a learning activity and may need to design a survey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students collect coul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m the basis of a Maths graphing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ist SRC students to make recommendation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provide evidence for a persuasive text 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rgumentative ess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ellow students’ knowledge of a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tcet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0000"/>
                </a:solidFill>
                <a:latin typeface="Arial"/>
              </a:rPr>
              <a:t>Collecting information from colleagues</a:t>
            </a:r>
            <a:endParaRPr b="0" lang="en-US" sz="3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1628640"/>
            <a:ext cx="79930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s with a special responsibility or leadership position may need to collect data from colleagues, such 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rategies used in various areas of teaching and lear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D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feedback / evaluation of school 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back on student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grade and allotment prefer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staff welf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ggestions of dates venues for staff functions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opinions re new building designs / fac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inions re priorities for budget expendi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ollecting information from parents</a:t>
            </a:r>
            <a:endParaRPr b="0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1628640"/>
            <a:ext cx="7993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might be surveyed to ascertain information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how they can support their children with thei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or instance, skill level development in areas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numeracy or liter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as in which they could volunteer support to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feedback about facilities around the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ndraising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laboration on department parent opinion surv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Online Survey Options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Free online surve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Zoomera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eSurveys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Survey Mon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oll Dad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Google Do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nd many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Let’s try a survey</a:t>
            </a:r>
            <a:endParaRPr b="0" lang="en-US" sz="4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the following link and complete the surv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URV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or go to the wiki and click on the survey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yarrarangesnetwork@wikispaces.com </a:t>
            </a:r>
            <a:r>
              <a:rPr b="0" lang="en-AU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AU" sz="2400" spc="-1" strike="noStrike">
                <a:solidFill>
                  <a:srgbClr val="ff0000"/>
                </a:solidFill>
                <a:latin typeface="Arial"/>
              </a:rPr>
              <a:t> upcoming professional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et’s analyse the data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o to http://www.surveymonkey.com/Default.asp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and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0:19:26Z</dcterms:created>
  <dc:creator>02167970</dc:creator>
  <dc:description/>
  <dc:language>en-US</dc:language>
  <cp:lastModifiedBy>02167970</cp:lastModifiedBy>
  <dcterms:modified xsi:type="dcterms:W3CDTF">2009-10-15T00:37:01Z</dcterms:modified>
  <cp:revision>25</cp:revision>
  <dc:subject/>
  <dc:title>Creating Online Surveys</dc:title>
</cp:coreProperties>
</file>